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9E0-C35C-48B6-9E17-1EA8AA07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D856-4FCD-4FCA-89C0-7593BCA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093-690F-48BD-90B4-FB1AF761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BC5-F2E7-47CC-A423-26B810D8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B2B-3718-471F-A48D-5B02371F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E3F-77B7-4CBB-999B-8ADA9F60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786-444B-4E02-8429-47D9C713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1D8-C5ED-410A-88AB-DA2EF6E9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A86-CFEA-4CFC-A969-73C16C60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BCC-5356-4DC3-82E5-6D916FC1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C00-A373-489A-99E7-5F8077E9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447-8833-486C-85F4-FA8F05FB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6749-8B56-4DAC-B523-2855E4B8D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260280"/>
            <a:ext cx="815328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dnesday 1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e: Wednesday 8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how you gathered information about your hockey performance in hockey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why these methods were valid and appropriate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-2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ree types of fit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ree aspects of mental fit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ree reasons CRE and SPEED are important to a midfield player in hock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p types of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methods of gathering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itness -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the following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inning head space” Psychology in 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of gather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ways we gather information in hockey.  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be our starting point for gathering information?  Give reasons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of gather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ll methods of gathering information you must know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t i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t looks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es it start/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it is Valid/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servation Sched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are we trying to gain from an match analysis schedu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is information be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gain information within the performance as well as ou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ised tes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se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compared to national ave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re-test at a later stage using the sam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ree tests we will us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etre shuttle ru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inoi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etre sprin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ndardised tes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your group devise a poster showing all aspects of your method and why it is appropr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ou have 15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18:23Z</dcterms:created>
  <dc:creator>hamiltonp</dc:creator>
  <dc:description/>
  <dc:language>en-US</dc:language>
  <cp:lastModifiedBy>hamiltonp</cp:lastModifiedBy>
  <dcterms:modified xsi:type="dcterms:W3CDTF">2010-08-31T07:52:20Z</dcterms:modified>
  <cp:revision>3</cp:revision>
  <dc:subject/>
  <dc:title>Lesson 2</dc:title>
</cp:coreProperties>
</file>